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EF963421-387C-4342-ADBE-3003A2CE70E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tal/KM Subprojec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Customer Info Sharing”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Level Content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ent (“Relevant Customer Information”) and Proposed Top Level Structure (Part 1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5123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usiness Typ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mission / engine / platform / vehicle roadmap with timing and volu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tive projects with link to engine, transmission, platform vehicle, project t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 and conditions (Cust1, common and XX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rranty sharing agre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rranty agre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ice parts process and conce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existing contracts (licenses, etc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eting minutes and present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ier 1 supplier per module/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s &amp; Suppor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cision makers / OrgCharts / Contacts / Expe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s from divisions or VAT with functions (internal; equal community member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rkets &amp; Trend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Technology roadm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etitor 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ket share per product from XX and competi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ws &amp; Event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 business opportunities (proactive / reactive; ongoing acquisition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YY monthly re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news; Up coming ev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ent (“Relevant Customer Information”) and Proposed Top Level Structure (Part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559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cesses &amp; Rol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known quality problems (red aler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1 quality targ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ivity agre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rget agreements (prices?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1 project timing planning (secured busine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on approach customer change request 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 part number change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t breakdown detai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st Center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&amp;D rates and break dow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mple pr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cellation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ece pr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ement of work (techn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definition (connected to proj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 &amp; Experienc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surve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03179</cp:lastModifiedBy>
  <cp:lastPrinted>2000-05-10T17:23:18Z</cp:lastPrinted>
  <dcterms:modified xsi:type="dcterms:W3CDTF">2003-07-01T12:32:50Z</dcterms:modified>
  <cp:revision>456</cp:revision>
  <dc:subject/>
  <dc:title>EP Sample High Level Content Specification </dc:title>
</cp:coreProperties>
</file>